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BC1-E35A-4FC1-9F32-6817EC2D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3CF-9177-43B4-9826-45C46AD2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27D-89AE-473D-886E-4B28317A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18C-D7D0-44B1-B0F4-38EEC5F3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4FA-5EF2-4AE6-8EFC-06E23ECB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73D-2BC6-4F2E-8877-0CA8F75D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84E-DDCF-4078-A7E5-B14AB9DA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2CE-26D8-44F9-8561-0C3D47FE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0AA-2027-4F09-BB84-3D096C70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D0E-73AB-4C17-A990-526C69D1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2CA-34A8-491D-85AD-29207196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490-B209-42A9-AA51-6FD4F462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01F4-10AB-4754-93C2-ACEBE977C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981000"/>
            <a:ext cx="712944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Vivir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to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o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e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imo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í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en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981000"/>
            <a:ext cx="712980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you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e / she / it / you (polite)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we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you (plural)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y / you (plural, polite)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33360"/>
            <a:ext cx="78501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parejas, decide cómo se forma el verbo &lt;&lt;vivir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197000"/>
            <a:ext cx="8497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the verb vivir- to li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how to describe various types of hous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lay battleship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47640" y="1125360"/>
            <a:ext cx="6769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n el nor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n el oest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  en el es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n el s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48360" y="2349360"/>
            <a:ext cx="0" cy="23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573360"/>
            <a:ext cx="273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264960"/>
            <a:ext cx="65530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333360"/>
            <a:ext cx="77043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se dice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Bidefo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southwest of England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my Mum, da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terraced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outsk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small tow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836640"/>
            <a:ext cx="40323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Bide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el suroeste de Ingla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 mi madre, mi padre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s tres her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v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una casa alin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las afu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 pueblo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50:57Z</dcterms:created>
  <dc:creator>rhawkes</dc:creator>
  <dc:description/>
  <dc:language>en-US</dc:language>
  <cp:lastModifiedBy>Owner1</cp:lastModifiedBy>
  <dcterms:modified xsi:type="dcterms:W3CDTF">2008-11-24T17:26:07Z</dcterms:modified>
  <cp:revision>23</cp:revision>
  <dc:subject/>
  <dc:title>Slide 1</dc:title>
</cp:coreProperties>
</file>